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9C5362F-BA38-42F8-8544-1DF83172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BF63A5D-3C81-418B-8DE9-BA2788371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CCE8C0C-23C3-4613-B58F-E8B46A6F0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701302F-57B3-43BF-B4BB-1EF67ADDC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61CD093-1AD1-44D9-B950-EC86A599B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C166361-4E95-4CAC-892C-EE88C044F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9DD0D0-02F4-4215-9EB9-434606F36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E0B47A3-B0F2-4ACE-8B0F-C4F8CF53D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F7544F7-73D4-4A59-B5E2-ED9C0F01F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38F1A9-223E-4BC2-8509-5338B5433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452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9360" y="87804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968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452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9360" y="3643200"/>
            <a:ext cx="28519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9320" y="88920"/>
            <a:ext cx="883908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64320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9320" y="63360"/>
            <a:ext cx="88390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878040"/>
            <a:ext cx="432252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680" y="3643200"/>
            <a:ext cx="8858160" cy="252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" name="Picture 5" descr="C:\dcwfiles\Logo.GIF"/>
          <p:cNvPicPr/>
          <p:nvPr/>
        </p:nvPicPr>
        <p:blipFill>
          <a:blip r:embed="rId2"/>
          <a:stretch/>
        </p:blipFill>
        <p:spPr>
          <a:xfrm>
            <a:off x="76320" y="6218280"/>
            <a:ext cx="914400" cy="5983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478720" y="6242040"/>
            <a:ext cx="592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38E4-7763-46E9-929D-7E2D67AC35E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5048280" y="6410160"/>
            <a:ext cx="121932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pril 2000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971640" y="6404040"/>
            <a:ext cx="28954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teel Construction Institut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060560" y="6281640"/>
            <a:ext cx="7458120" cy="93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8192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mplementation Workshop I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3-7 April 2000, Asco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ntroduction &amp; 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3200" y="5000760"/>
          <a:ext cx="7238880" cy="16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5000760"/>
                    <a:ext cx="7238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6"/>
          <p:cNvSpPr/>
          <p:nvPr/>
        </p:nvSpPr>
        <p:spPr>
          <a:xfrm>
            <a:off x="3562200" y="4910040"/>
            <a:ext cx="3429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Univers"/>
              </a:rPr>
              <a:t>Dr A.J.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03120" y="4762440"/>
            <a:ext cx="8562960" cy="1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303120" y="1162080"/>
            <a:ext cx="8562960" cy="1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e-requi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ttendees are expected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familiar with the CIS/2 documen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their own Laptop PC with CDROM driv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eferably with their potential CIS/2-conformant application installed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ring detailed documentation for their native data structure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 experienced software developer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a detailed understanding of the native data structures of their applic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discuss what progress they have ma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 what difficulties they have encountered during their translator developmen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nt of the worksho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quip each of you with the knowledge necessary to implement CIS/2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o enable you to effectively pursue and complete translator development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is workshop will have interactive environment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cluding discussions, question &amp; answer sessions, tutorials and workshop session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36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translates to a great deal of hands-on experien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articip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9680" y="878040"/>
            <a:ext cx="8858160" cy="52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The success of this workshop depends upon the participation of each attendee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day is packed with information and exercis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ry to endure thi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 as involved as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00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k as many questions as you lik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on't leave this workshop with questions unanswered!!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1 - Mon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15920" y="762120"/>
            <a:ext cx="8875800" cy="54608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2 - Tu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92240" y="762120"/>
            <a:ext cx="887544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3 - Wedne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7" name="Object 3" descr=""/>
          <p:cNvPicPr/>
          <p:nvPr/>
        </p:nvPicPr>
        <p:blipFill>
          <a:blip r:embed="rId1"/>
          <a:stretch/>
        </p:blipFill>
        <p:spPr>
          <a:xfrm>
            <a:off x="115920" y="741240"/>
            <a:ext cx="8875800" cy="550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4 - Thurs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Object 3" descr=""/>
          <p:cNvPicPr/>
          <p:nvPr/>
        </p:nvPicPr>
        <p:blipFill>
          <a:blip r:embed="rId1"/>
          <a:stretch/>
        </p:blipFill>
        <p:spPr>
          <a:xfrm>
            <a:off x="268200" y="1019160"/>
            <a:ext cx="8607600" cy="515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20" y="88920"/>
            <a:ext cx="883908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y 5 - Frida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1" name="Object 2067" descr=""/>
          <p:cNvPicPr/>
          <p:nvPr/>
        </p:nvPicPr>
        <p:blipFill>
          <a:blip r:embed="rId1"/>
          <a:stretch/>
        </p:blipFill>
        <p:spPr>
          <a:xfrm>
            <a:off x="268200" y="846000"/>
            <a:ext cx="8607600" cy="524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4:49:47Z</dcterms:created>
  <dc:creator>Andrew Crowley</dc:creator>
  <dc:description/>
  <dc:language>en-US</dc:language>
  <cp:lastModifiedBy>Robert Lipman</cp:lastModifiedBy>
  <cp:lastPrinted>1999-02-12T12:33:41Z</cp:lastPrinted>
  <dcterms:modified xsi:type="dcterms:W3CDTF">2012-02-17T21:43:23Z</dcterms:modified>
  <cp:revision>7</cp:revision>
  <dc:subject/>
  <dc:title>CIS/2 Implementation Workshop III,  3-7 April 2000, Ascot</dc:title>
</cp:coreProperties>
</file>